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0A3-97E6-495D-91F8-185F82FF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9C5-06BA-4A70-B479-DBB8858D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071-3B88-4931-8ED9-1876602E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8B3B-BFEE-4D5F-8F2B-F7A1F1EB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8F27-E7B4-40F9-8607-B304936D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33B1-1084-4303-A92C-A106BF72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40A-EF0D-4DA8-943F-6516C0E5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90F-E9FD-4567-8289-99D8879C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6CE5-9078-43E7-97AC-AD357A6D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A0C-F293-4F2B-8C1D-509F8856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1237-D138-4704-BB97-A3BD82F2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B36-F0BE-4CF5-96BA-3D7710F1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D3A9-8501-40AE-BA7B-1FC44B0742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ity_street_1"/>
          <p:cNvPicPr/>
          <p:nvPr/>
        </p:nvPicPr>
        <p:blipFill>
          <a:blip r:embed="rId1"/>
          <a:stretch/>
        </p:blipFill>
        <p:spPr>
          <a:xfrm>
            <a:off x="5435640" y="3645000"/>
            <a:ext cx="3371760" cy="2896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 préfères la ville ou la campag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country_road_2"/>
          <p:cNvPicPr/>
          <p:nvPr/>
        </p:nvPicPr>
        <p:blipFill>
          <a:blip r:embed="rId2"/>
          <a:stretch/>
        </p:blipFill>
        <p:spPr>
          <a:xfrm>
            <a:off x="468360" y="333360"/>
            <a:ext cx="4667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e n’aime pas la campagne, parce qu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44956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vie est trop cal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s’ennuie tr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Ça sent trop mauv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trop d’insec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n’y a pas assez de dist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n’y a pas assez de choses à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s transports publics ne sont pas assez fréqu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n’y a pas assez d’emploi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00720" y="836640"/>
            <a:ext cx="46432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fe is too qui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 get too b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 smells too 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too many ins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n’t enough dist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n’t enough things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ublic transport is not frequent en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n’t enough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En vil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44956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plus de pollution qu’à la campag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’est plus pollu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plus de mo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plus de bru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plus de choses à faire pour les jeu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’est plus dangereu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vie est plus stress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’est plus anim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00720" y="981000"/>
            <a:ext cx="46432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more pollution than in the country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’s more pollu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more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’s more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more things to do for young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’s more danger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fe is more stress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’s more liv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À la campagn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44956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moins d’activités qu’en 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moins de choses à f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moins de maga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moins de problèmes de lo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moins de crimin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a moins de risques d’être agres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’est moins bruy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00720" y="980640"/>
            <a:ext cx="46432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less activities than in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less things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less 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less hous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’s less c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’re less at risk of being assaul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’s less noi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7:10:48Z</dcterms:created>
  <dc:creator>gennevicst</dc:creator>
  <dc:description/>
  <dc:language>en-US</dc:language>
  <cp:lastModifiedBy>Nicolas</cp:lastModifiedBy>
  <dcterms:modified xsi:type="dcterms:W3CDTF">2011-01-31T23:30:28Z</dcterms:modified>
  <cp:revision>10</cp:revision>
  <dc:subject/>
  <dc:title>Tu préfères la ville ou la campagne?</dc:title>
</cp:coreProperties>
</file>